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785-165D-47B3-A5F8-74C45732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35B-0229-46F9-A748-5C3CB840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21A-D4A3-4A66-9E19-8F255376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BD4-7F83-4ADF-BC43-22F6A164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201-C74A-43A5-97A1-8D80403A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E75-790E-447A-9214-B98AE8F2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ACD-99C9-4173-B3B9-D5209AF4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FD2-451D-4B6C-AD24-EBE7D102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A60-B104-484B-88CD-4CABB104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3D3-2286-424C-9F3F-DD3203CC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979-09E7-4CDF-9FB3-3DE2D411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DAF-7F6D-423F-A8CA-104EB6F6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4A39-B2F3-441C-B0D0-A0BA06006A5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58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Book Antiqua"/>
              </a:rPr>
              <a:t>TRABAJO FINA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571680" y="88092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Se realizará un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Plan de Medios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para diferentes empresas de la región, de acuerdo a los objetivos y las necesidades de comunicación que se requier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presupuesto con el que cuenta cada una de las empresas para realizar su estrategia de comunicación es de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300 mil pesos, IVA inclui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os medios que interesan a estas empresas son la radio, televisión, prensa, revistas, internet y publicidad ex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CuadroTexto"/>
          <p:cNvSpPr/>
          <p:nvPr/>
        </p:nvSpPr>
        <p:spPr>
          <a:xfrm>
            <a:off x="571680" y="64296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1.- Selecta de Guay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uego de un éxito en el mercado nacional e internacional, Selecta de Guaymas, en lo referente a la comercialización de sardina enlatada, quiere realizar una agresiva campaña en el mercado local (Guaymas-Empalme), pues considera que es necesaria, no sólo para la venta de producto, sino para mejorar la imagen de la empresa frente a los consumidores y la sociedad l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500040" y="1028880"/>
            <a:ext cx="8072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2.-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Maquilas Tetakaw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ta empresa busca un objetivo primordial: MEJORAR SU IMAGEN, luego de la pérdida de empleos y las críticas por los bajos salarios y los horarios extendidos para los trabajadores, la empresa desea realizar una campaña intensa en la región Guaymas y Empalme para mejorar su imagen ante la socie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571680" y="59544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3.-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 Santa F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a llegada de Wall Mart y SAMS, así como la apertura de un nuevo Mercado Soriana, han provocado en Guaymas pérdidas de utilidades a la relativamente nueva marca Santa Fé, en el negocio de los supermerc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a empresa necesita posicionar urgentemente su marca en Guaymas, pues de lo contrario tendrán que cerrar sus tiendas en la ciu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500040" y="571680"/>
            <a:ext cx="8143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4.-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H. Ayuntamiento de Guay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a credibilidad de los ciudadanos en el nuevo Gobierno Municipal se esfumó, es necesaria una campaña en medios que posibilite recuperar esa confianza de la población, sin embargo existe un problema: No hay suficientes recursos para realizar una campaña intensa y agresi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Municipio quiere que sus obras y programas sociales se difundan en total apego a la Ley y con un impacto efic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571680" y="71424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5.-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Colegio Méx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te colegio (preescolar y primaria) llega a un aparente saturado mercado guaymense en cuanto a la educación básica privada. Sus competidores como Colegio Americano, Instituto Regional o Instituto Cervino, gozan ya de un reconocimiento por parte de la comun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Colegio México necesita realizar una campaña estratégica de lanzamiento en medios, pero cuenta con poco presupues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5:29:17Z</dcterms:created>
  <dc:creator>Manuel Marquez</dc:creator>
  <dc:description/>
  <dc:language>en-US</dc:language>
  <cp:lastModifiedBy>Manuel Marquez</cp:lastModifiedBy>
  <dcterms:modified xsi:type="dcterms:W3CDTF">2003-01-12T15:37:30Z</dcterms:modified>
  <cp:revision>1</cp:revision>
  <dc:subject/>
  <dc:title>TRABAJO FINAL</dc:title>
</cp:coreProperties>
</file>